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4240" y="476280"/>
            <a:ext cx="8296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1801440"/>
            <a:ext cx="8296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4240" y="3931560"/>
            <a:ext cx="8296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4240" y="476280"/>
            <a:ext cx="8296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4240" y="1801440"/>
            <a:ext cx="404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5480" y="1801440"/>
            <a:ext cx="404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4240" y="3931560"/>
            <a:ext cx="404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5480" y="3931560"/>
            <a:ext cx="404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4240" y="476280"/>
            <a:ext cx="8296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4240" y="1801440"/>
            <a:ext cx="26712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360" y="1801440"/>
            <a:ext cx="26712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480" y="1801440"/>
            <a:ext cx="26712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4240" y="3931560"/>
            <a:ext cx="26712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360" y="3931560"/>
            <a:ext cx="26712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480" y="3931560"/>
            <a:ext cx="267120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4240" y="476280"/>
            <a:ext cx="8296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4240" y="1801440"/>
            <a:ext cx="829656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4240" y="476280"/>
            <a:ext cx="8296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4240" y="1801440"/>
            <a:ext cx="829656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4240" y="476280"/>
            <a:ext cx="8296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4240" y="1801440"/>
            <a:ext cx="404856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5480" y="1801440"/>
            <a:ext cx="404856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4240" y="476280"/>
            <a:ext cx="8296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4240" y="476280"/>
            <a:ext cx="82965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4240" y="476280"/>
            <a:ext cx="8296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4240" y="1801440"/>
            <a:ext cx="404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5480" y="1801440"/>
            <a:ext cx="404856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4240" y="3931560"/>
            <a:ext cx="404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4240" y="476280"/>
            <a:ext cx="8296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1801440"/>
            <a:ext cx="404856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5480" y="1801440"/>
            <a:ext cx="404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5480" y="3931560"/>
            <a:ext cx="404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4240" y="476280"/>
            <a:ext cx="8296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1801440"/>
            <a:ext cx="404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5480" y="1801440"/>
            <a:ext cx="4048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4240" y="3931560"/>
            <a:ext cx="8296560" cy="19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1623960"/>
            <a:ext cx="9329760" cy="4856040"/>
          </a:xfrm>
          <a:prstGeom prst="roundRect">
            <a:avLst>
              <a:gd name="adj" fmla="val 32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4240" y="476280"/>
            <a:ext cx="8296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4240" y="1801440"/>
            <a:ext cx="829656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04156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0188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3880" y="4759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333333"/>
                </a:solidFill>
                <a:latin typeface="Book Antiqua"/>
              </a:rPr>
              <a:t>Презентация по геометрии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7120" y="2879640"/>
            <a:ext cx="83008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428760" indent="-324000" algn="ctr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700" spc="-1" strike="noStrike">
                <a:solidFill>
                  <a:srgbClr val="4c4c4c"/>
                </a:solidFill>
                <a:latin typeface="Arial"/>
              </a:rPr>
              <a:t>Ученицы 9 "В" клас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700" spc="-1" strike="noStrike">
                <a:solidFill>
                  <a:srgbClr val="4c4c4c"/>
                </a:solidFill>
                <a:latin typeface="Arial"/>
              </a:rPr>
              <a:t>    </a:t>
            </a:r>
            <a:r>
              <a:rPr b="0" i="1" lang="en-US" sz="2700" spc="-1" strike="noStrike">
                <a:solidFill>
                  <a:srgbClr val="4c4c4c"/>
                </a:solidFill>
                <a:latin typeface="Arial"/>
              </a:rPr>
              <a:t>Лазаревой Александ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700" spc="-1" strike="noStrike">
                <a:solidFill>
                  <a:srgbClr val="4c4c4c"/>
                </a:solidFill>
                <a:latin typeface="Arial"/>
              </a:rPr>
              <a:t>Тема:</a:t>
            </a:r>
            <a:r>
              <a:rPr b="0" i="1" lang="en-US" sz="2700" spc="-1" strike="noStrike">
                <a:solidFill>
                  <a:srgbClr val="4c4c4c"/>
                </a:solidFill>
                <a:latin typeface="Arial"/>
              </a:rPr>
              <a:t> Площади фигу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3880" y="4759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800" spc="-1" strike="noStrike">
                <a:solidFill>
                  <a:srgbClr val="333333"/>
                </a:solidFill>
                <a:latin typeface="Comic Sans MS"/>
              </a:rPr>
              <a:t>Площадь треугольника</a:t>
            </a: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13880" y="1801800"/>
            <a:ext cx="830124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S =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Segoe UI"/>
              </a:rPr>
              <a:t>½∙a∙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Times New Roman"/>
                <a:ea typeface="Segoe UI"/>
              </a:rPr>
              <a:t>S – площадь, a – сторона, h – высота, проведенная к стороне “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1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70400" y="295272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899320" y="5472000"/>
            <a:ext cx="652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60000">
            <a:off x="6164640" y="442332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68360" y="5423040"/>
            <a:ext cx="34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·10·6 = 30 с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3880" y="4759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Comic Sans MS"/>
              </a:rPr>
              <a:t>Площадь прямоугольник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801800"/>
            <a:ext cx="830124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Times New Roman"/>
              </a:rPr>
              <a:t>S=a</a:t>
            </a:r>
            <a:r>
              <a:rPr b="1" i="1" lang="en-US" sz="3600" spc="-1" strike="noStrike">
                <a:solidFill>
                  <a:srgbClr val="000080"/>
                </a:solidFill>
                <a:latin typeface="Times New Roman"/>
                <a:ea typeface="Segoe UI"/>
              </a:rPr>
              <a:t>·</a:t>
            </a:r>
            <a:r>
              <a:rPr b="1" i="1" lang="en-US" sz="3600" spc="-1" strike="noStrike">
                <a:solidFill>
                  <a:srgbClr val="00008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Times New Roman"/>
              </a:rPr>
              <a:t>S – площадь, a – ширина, b - вы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24360" y="5543640"/>
            <a:ext cx="230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=10</a:t>
            </a:r>
            <a:r>
              <a:rPr b="0" i="1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2=20 см</a:t>
            </a:r>
            <a:r>
              <a:rPr b="0" i="1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6360" y="3240000"/>
            <a:ext cx="4032000" cy="2879640"/>
          </a:xfrm>
          <a:prstGeom prst="roundRect">
            <a:avLst>
              <a:gd name="adj" fmla="val 51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11640" y="2789280"/>
            <a:ext cx="417672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335640" y="5256360"/>
            <a:ext cx="714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8775000" y="4469400"/>
            <a:ext cx="7380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759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800" spc="-1" strike="noStrike">
                <a:solidFill>
                  <a:srgbClr val="333333"/>
                </a:solidFill>
                <a:latin typeface="Comic Sans MS"/>
              </a:rPr>
              <a:t>Площадь ромба</a:t>
            </a: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3880" y="1801800"/>
            <a:ext cx="830124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S</a:t>
            </a:r>
            <a:r>
              <a:rPr b="1" i="1" lang="en-US" sz="1600" spc="-1" strike="noStrike">
                <a:solidFill>
                  <a:srgbClr val="000080"/>
                </a:solidFill>
                <a:latin typeface="Times New Roman"/>
              </a:rPr>
              <a:t>ABCD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Segoe UI"/>
              </a:rPr>
              <a:t>½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</a:rPr>
              <a:t>AC</a:t>
            </a:r>
            <a:r>
              <a:rPr b="1" i="1" lang="en-US" sz="2800" spc="-1" strike="noStrike">
                <a:solidFill>
                  <a:srgbClr val="000080"/>
                </a:solidFill>
                <a:latin typeface="Times New Roman"/>
                <a:ea typeface="Segoe UI"/>
              </a:rPr>
              <a:t>·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22360" y="5472000"/>
            <a:ext cx="25736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i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Segoe UI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·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Segoe UI"/>
              </a:rPr>
              <a:t>5=25 см</a:t>
            </a:r>
            <a:r>
              <a:rPr b="0" i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2631960"/>
            <a:ext cx="37972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S – площадь, AC – диагонал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BD - диагона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56360" y="2448000"/>
            <a:ext cx="4176720" cy="360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19920000">
            <a:off x="6302160" y="4329000"/>
            <a:ext cx="71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3120000">
            <a:off x="6941160" y="3658320"/>
            <a:ext cx="600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3880" y="4759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Comic Sans MS"/>
              </a:rPr>
              <a:t>Площадь параллелограмма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3880" y="1801800"/>
            <a:ext cx="830124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0080"/>
                </a:solidFill>
                <a:latin typeface="Times New Roman"/>
              </a:rPr>
              <a:t>S=a</a:t>
            </a:r>
            <a:r>
              <a:rPr b="1" i="1" lang="en-US" sz="3600" spc="-1" strike="noStrike">
                <a:solidFill>
                  <a:srgbClr val="000080"/>
                </a:solidFill>
                <a:latin typeface="Times New Roman"/>
                <a:ea typeface="Segoe UI"/>
              </a:rPr>
              <a:t>·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Times New Roman"/>
                <a:ea typeface="Segoe UI"/>
              </a:rPr>
              <a:t>S – площадь, a – сторона, h – высота, проведенная к стороне “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5160" y="5256360"/>
            <a:ext cx="20415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=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3=15 см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06920" y="3173400"/>
            <a:ext cx="4537080" cy="2874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21540000">
            <a:off x="6265800" y="3432240"/>
            <a:ext cx="647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5556960" y="4670640"/>
            <a:ext cx="647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3880" y="4759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Comic Sans MS"/>
              </a:rPr>
              <a:t>Площадь трапеции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801440"/>
            <a:ext cx="785340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= </a:t>
            </a:r>
            <a:r>
              <a:rPr b="1" i="1" lang="en-US" sz="3200" spc="-1" strike="noStrike">
                <a:solidFill>
                  <a:srgbClr val="000080"/>
                </a:solidFill>
                <a:latin typeface="Times New Roman"/>
                <a:ea typeface="Segoe UI"/>
              </a:rPr>
              <a:t>(</a:t>
            </a: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a+b)</a:t>
            </a:r>
            <a:r>
              <a:rPr b="1" i="1" lang="en-US" sz="3200" spc="-1" strike="noStrike">
                <a:solidFill>
                  <a:srgbClr val="000080"/>
                </a:solidFill>
                <a:latin typeface="Times New Roman"/>
                <a:ea typeface="Segoe UI"/>
              </a:rPr>
              <a:t>:2·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Times New Roman"/>
                <a:ea typeface="Segoe UI"/>
              </a:rPr>
              <a:t>S – площадь, a – основание, b – основание, h - 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87640" y="5616720"/>
            <a:ext cx="3127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=(5+10):2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4=30 см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78480" y="2808360"/>
            <a:ext cx="3738600" cy="3522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775640" y="5380200"/>
            <a:ext cx="647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4720" y="3003480"/>
            <a:ext cx="774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080000">
            <a:off x="6141240" y="4521960"/>
            <a:ext cx="648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47592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Comic Sans MS"/>
              </a:rPr>
              <a:t>Площадь прямоугольного</a:t>
            </a:r>
            <a:br>
              <a:rPr sz="3200"/>
            </a:br>
            <a:r>
              <a:rPr b="0" i="1" lang="ru-RU" sz="3200" spc="-1" strike="noStrike">
                <a:solidFill>
                  <a:srgbClr val="333333"/>
                </a:solidFill>
                <a:latin typeface="Comic Sans MS"/>
              </a:rPr>
              <a:t>треугольника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4240" y="1801440"/>
            <a:ext cx="8298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300dc"/>
                </a:solidFill>
                <a:latin typeface="Times New Roman"/>
              </a:rPr>
              <a:t>S=</a:t>
            </a:r>
            <a:r>
              <a:rPr b="0" i="1" lang="ru-RU" sz="2800" spc="-1" strike="noStrike">
                <a:solidFill>
                  <a:srgbClr val="2300dc"/>
                </a:solidFill>
                <a:latin typeface="Times New Roman"/>
                <a:ea typeface="Arial"/>
              </a:rPr>
              <a:t>½·a·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300dc"/>
                </a:solidFill>
                <a:latin typeface="Times New Roman"/>
                <a:ea typeface="Arial"/>
              </a:rPr>
              <a:t>S — площадь, a — катет, b — ка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84880" y="2664000"/>
            <a:ext cx="3832200" cy="3544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5400000">
            <a:off x="6041160" y="4310640"/>
            <a:ext cx="647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5164200"/>
            <a:ext cx="648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98680" y="5292720"/>
            <a:ext cx="2244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·2·4=4 см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3880" y="47592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333333"/>
                </a:solidFill>
                <a:latin typeface="Comic Sans MS"/>
              </a:rPr>
              <a:t>Формула Герон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3880" y="1801800"/>
            <a:ext cx="830124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S=</a:t>
            </a:r>
            <a:r>
              <a:rPr b="1" i="1" lang="en-US" sz="3200" spc="-1" strike="noStrike">
                <a:solidFill>
                  <a:srgbClr val="000080"/>
                </a:solidFill>
                <a:latin typeface="Times New Roman"/>
                <a:ea typeface="Segoe UI"/>
              </a:rPr>
              <a:t>√p(p-a)(p-b)(p-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Times New Roman"/>
                <a:ea typeface="Segoe UI"/>
              </a:rPr>
              <a:t>S – площадь, p – полупериметр треугольника, a,b,c – стороны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94160" y="1836720"/>
            <a:ext cx="194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64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=(a+b+c)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4240" y="3456000"/>
            <a:ext cx="29368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=(10+13+9):2=16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8560" y="4535640"/>
            <a:ext cx="3619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12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16(16-10)(16-9)(16-13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∙6∙7∙3=√2016≈44.9 см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56360" y="3598920"/>
            <a:ext cx="4176720" cy="2520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20000" y="5451480"/>
            <a:ext cx="774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9500000">
            <a:off x="6648120" y="4113000"/>
            <a:ext cx="774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3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3540000">
            <a:off x="8511480" y="4112280"/>
            <a:ext cx="647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5:21:58Z</dcterms:created>
  <dc:creator/>
  <dc:description>Сиреневая область заголовка с тремя сине-зелеными элементами на левой границе; серый фон</dc:description>
  <dc:language>en-US</dc:language>
  <cp:lastModifiedBy/>
  <dcterms:modified xsi:type="dcterms:W3CDTF">2012-11-21T15:29:48Z</dcterms:modified>
  <cp:revision>2</cp:revision>
  <dc:subject/>
  <dc:title>Тонкие акценты</dc:title>
</cp:coreProperties>
</file>